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A31-A6F2-48A2-9775-3E037AC3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FF4-88BE-41FF-9391-F4D691CA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976-3238-492C-8EC1-E6448BEC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A90-B04C-49A8-9938-896AEAA3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8D8-2F22-48CC-9CED-17419E95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A637-CB7C-4D7E-A583-858FAC01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9EB-25E4-4F98-8D84-1E30327C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7CF-3708-4AD9-A411-C142E395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445-FA8C-488A-83DA-407B2733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32C-B78D-4CF3-B6D4-F87B8A39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4CD-25D3-4F2C-95A4-811E47F0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F26-DE0D-478C-BDBC-D546271A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0D17-D360-4100-A3EF-699C61B56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462640" cy="693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527360" cy="59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2590920"/>
            <a:ext cx="655308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162920" cy="1619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05320" y="152388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1523880"/>
            <a:ext cx="6094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3341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7543800" cy="156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19520" y="12952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1295280"/>
            <a:ext cx="533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951360" cy="60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609588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01000" cy="1652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86200" y="15238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38680" cy="4765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76720" y="1828800"/>
            <a:ext cx="6094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3623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2819520"/>
            <a:ext cx="3812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335268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3809880"/>
            <a:ext cx="533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4:30:02Z</dcterms:created>
  <dc:creator>grahams</dc:creator>
  <dc:description/>
  <dc:language>en-US</dc:language>
  <cp:lastModifiedBy>grahams</cp:lastModifiedBy>
  <dcterms:modified xsi:type="dcterms:W3CDTF">2012-03-20T14:14:50Z</dcterms:modified>
  <cp:revision>3</cp:revision>
  <dc:subject/>
  <dc:title>Slide 1</dc:title>
</cp:coreProperties>
</file>